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Chapter" id="0">
      <p:sldLst>
        <p:sld r:id="rId4"/>
        <p:sld r:id="rId5"/>
        <p:sld r:id="rId6"/>
        <p:sld r:id="rId14"/>
        <p:sld r:id="rId12"/>
        <p:sld r:id="rId13"/>
        <p:sld r:id="rId15"/>
        <p:sld r:id="rId9"/>
      </p:sldLst>
    </p:custShow>
    <p:custShow name="ELI Sect 1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4"/>
        <p:sld r:id="rId16"/>
        <p:sld r:id="rId17"/>
      </p:sldLst>
    </p:custShow>
    <p:custShow name="ELI Sect 3" id="2">
      <p:sldLst>
        <p:sld r:id="rId3"/>
        <p:sld r:id="rId13"/>
        <p:sld r:id="rId15"/>
      </p:sldLst>
    </p:custShow>
    <p:custShow name="ELI Sect 4" id="3">
      <p:sldLst>
        <p:sld r:id="rId13"/>
        <p:sld r:id="rId15"/>
        <p:sld r:id="rId9"/>
      </p:sldLst>
    </p:custShow>
    <p:custShow name="ELI STP" id="4">
      <p:sldLst>
        <p:sld r:id="rId10"/>
        <p:sld r:id="rId11"/>
      </p:sldLst>
    </p:custShow>
    <p:custShow name="Bellringers" id="5">
      <p:sldLst>
        <p:sld r:id="rId4"/>
        <p:sld r:id="rId13"/>
      </p:sldLst>
    </p:custShow>
    <p:custShow name="Chapter menu" id="6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4"/>
        <p:sld r:id="rId16"/>
        <p:sld r:id="rId17"/>
        <p:sld r:id="rId3"/>
        <p:sld r:id="rId13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rth as a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4724280" y="6172200"/>
            <a:ext cx="104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nextslide"/>
          </p:cNvPr>
          <p:cNvSpPr/>
          <p:nvPr/>
        </p:nvSpPr>
        <p:spPr>
          <a:xfrm>
            <a:off x="5724360" y="6162840"/>
            <a:ext cx="1076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firstslide"/>
          </p:cNvPr>
          <p:cNvSpPr/>
          <p:nvPr/>
        </p:nvSpPr>
        <p:spPr>
          <a:xfrm>
            <a:off x="6716880" y="6162840"/>
            <a:ext cx="1304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" action="ppaction://hlinkshowjump?jump=endshow"/>
          </p:cNvPr>
          <p:cNvSpPr/>
          <p:nvPr/>
        </p:nvSpPr>
        <p:spPr>
          <a:xfrm>
            <a:off x="7921800" y="6162840"/>
            <a:ext cx="1128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th: A Unique Plane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4950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I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as a Mag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Magnetic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Gra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layers of Earth’s in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3152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ucture of the Earth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69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 as a Magne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magnetic field extends beyond the atmosphere and affects a region of space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gnetosp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think that motions within the liquid iron of Earth’s outer core produce electric currents that in turn create Earth’s magnetic fie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Magnetic Fiel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74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Gravit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y is the force of attraction that exists between all matter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Newton’s law of gravitation, the force of attraction between any two objects depends on the masses of the objects and the distance between the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rger the masses of two objects are and the closer together the objects are, the greater the force of gravity between the objects will 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Gravit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96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ight and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 is a measure of the strength of the pull of gravity on an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’s weight depends on its mass and its distance from Earth’s cen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ight and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 distance between Earth’s surface and its center is greater at the equator than at the poles, the weight of an object at the equator is about 0.3% less than its weight at the North Po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4800600" y="6080040"/>
            <a:ext cx="838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6080040"/>
            <a:ext cx="838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ze and shape of Ear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positional and structural layers of Earth’s in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ssible source of Earth’s magnetic fie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ton’s law of gravi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 Basic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is the third planet from the sun in our solar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formed about 4.6 billion years ago and is made mostly of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ly 70% of Earth’s surface is covered by a thin layer of water known as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lobal oce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is an oblate sphere, or a slightly flattened sphere. Earth’s pole-to-pole circumference is 40,007 km. Its equatorial circumference is 40,074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average diameter is 12,756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have made important discoveries about Earth’s interior through studies of seismic w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smic waves are vibrations that travel through Earth and that are caused by earthquakes and by explosions near Earth’s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tudying seismic waves as they travel through Earth, scientists have determined that Earth is made up of three major compositional zones and five major structural z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sitional Zones of Earth’s I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ru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in and solid outermost layer of Earth that lies above the man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ic crust, which lies under the oceans, is only 5 to 10 km thick. The continental crust varies in thickness from  15 km to 80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nt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arth science, the layer of rock that lies between Earth’s crust and 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ntle is nearly 2,900 km thick and makes up almost two-thi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sitional Zones of Earth’s Interior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ntral part of Earth that lies below the man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nter of Earth is a sphere composed mainly of nickel and iron whose radius is about 3,500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415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ading 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why scientists have to rely on indirect   observations to study Earth’s in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irect observations are the only means available for exploring Earth’s interior at depths too great to be reached by dril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Structural Zones of Earth’s Interi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three compositional zones of Earth’s interior are divided into five structural zon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lithospher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olid, outer layer of Earth that consists of the crust and the rigid upper part of the mant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rigid lithosphere is between 15km and 300 km thic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sthenospher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olid, plastic layer of the mantle beneath the lithosphere; made of mantle rock that flows very slowly, which allows tectonic plates to move on top of 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lastic asthenosphere is about 200 km thic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96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uctural Zones of Earth’s Interior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sosphe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erally, the “middle sphere”; the strong, lower part of the mantle between the asthenosphere and the outer 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sosphere reaches from the bottom of the asthenosphere to a depth of about 2,900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ow the mesosphere is the liquid outer c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uter core surrounds the solid inner core, which begins at a depth of 5,150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Power</cp:lastModifiedBy>
  <cp:lastPrinted>2004-02-20T14:12:55Z</cp:lastPrinted>
  <dcterms:modified xsi:type="dcterms:W3CDTF">2006-11-15T17:34:46Z</dcterms:modified>
  <cp:revision>727</cp:revision>
  <dc:subject/>
  <dc:title>No Slide Title</dc:title>
</cp:coreProperties>
</file>